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A599D-A07E-40C9-BBD7-27CEB6D319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sible Light &amp;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BJECTIVE: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sible Light &amp;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JECTIV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BAT identify the different colors of the visible light and compare each of its frequency and wave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whi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white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Whit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he colors ROY G BIV being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2. Whit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the colors ROY G BIV being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BLACK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BLACK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get blac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get black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 of rainbow being ABSORB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3.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 of rainbow being ABSORB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Fash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l/Wint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/Summer Co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 Fashio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4. How do we se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4. HOW DO WE SE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HOW DO WE SE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light goes from the source (sun, lamp, etc.) to the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the color we see is reflected and the rest is absorbed by the objec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REFLEC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WH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REFLECT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WHIT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ll colors are ABSORB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BL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all colors are ABSORBE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e see BLACK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the essential ques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we perceive col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Review Poi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smallest band of the Electromagnetic spectru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Summar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Quick Review Point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W: How We See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House Pla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(s) go 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olor (s) go o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HW: How We See Ligh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 Balloon Tos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Balloon To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ht &amp; Col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vie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te – No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reflected to eye. (white light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Black – All colors are absorbed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white light hits an object, all the colors are absorbed except for the color of that obje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 – All colors absorbed except blue, which is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– No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reflected to eye. (white l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– All colors are absorbed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colors are reflected to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ctivity Instruction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is activity, you will be given a colored balloon.  You will see objects of various colors on the screen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absorbed by the object, you need to cover the balloon with your body. DON’T POP IT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color you have is reflected by the object, you need to reflect the balloon into the air above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nfused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It’s okay…let’s give it a shot.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us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’s okay…let’s give it a sh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olors are absorbed excep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et’s get started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get started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y close atten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MAIN 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LAST O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T O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 Ready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MORE Sl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ADD MORE Slid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1. What is visible light?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-smallest part of the EM spectrum that the human eyes can se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to Violet (ROYGBIV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What is visible ligh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mallest part of the EM spectrum that the human eyes can se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to Violet (ROYGBI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What are the different colors of visible light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ed – lowest energy, long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Orang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Yellow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Gree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Blu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Indig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Violet – highest energy, shortes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  <a:ea typeface="MS PGothic"/>
              </a:rPr>
              <a:t>ROY G BIV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 different colors of visible ligh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– lowest energy, long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an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– highest energy, shortes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Y G B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most energy and short/small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most energy and short/small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et      the HIGHEST energy… and SHORT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Violet      the HIGHEST energy… and SHORT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color has the lowest energy and long/big wavelength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ich color has the lowest energy and long/big wavelength??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     the LOWEST energy… and LONG wave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Col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Red      the LOWEST energy… and LONG wavelength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when you wear WHITE on a hot d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 Black"/>
              </a:rPr>
              <a:t>What happens when you wear WHITE on a hot day?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A700-0C72-4CE6-A2C3-C7B83BF88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EB93-ED3E-42D5-9DFF-2E8F90960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08E3-4C3E-4C1B-8981-E7BDD4A18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E89E-0E19-4162-88F3-C3A8EEB8C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9DEAF-9CCF-4E7A-B063-D724857A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942D-46D1-49D6-9940-8DBACB563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5E57-54F9-4ECF-B652-1AA0A767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81CE-66F3-414F-8444-193056FE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9374-B825-4EA0-8FED-EEF5C3435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E10E-E634-4D3A-BA39-50953150B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6F777-ECC0-45F7-B4E9-5F049A877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8FD3-BAD2-4733-9523-87474AF1E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2271F-0175-408E-AD95-95229768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63DD2-6428-4AC4-B0FB-A95EEDE9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C5F2-779C-439C-B1EE-E533B889A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5DD9-6A6A-4890-8758-C6DE10B4E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26C0-D706-433D-9A27-755354216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4FE4-EE26-44FA-ABFF-E4B8B70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AE1-176E-4D06-85A4-E83219B6B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E4CB-C38F-4D13-9F2B-80A69A741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E758-A90F-4359-B3C6-FF4B3AA5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529-4C8D-40FB-9D46-469277F0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A738-856A-410A-963A-5F065706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0B4-597D-4F85-A4AE-D92A7C52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5040" y="28296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61200" y="1773000"/>
                <a:ext cx="24264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48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" bIns="-216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599"/>
                    </a:cubicBezTo>
                    <a:cubicBezTo>
                      <a:pt x="10696" y="21599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-1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-1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-1"/>
                    </a:cubicBezTo>
                    <a:cubicBezTo>
                      <a:pt x="23204" y="-1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0409" y="-1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2367-4165-4F53-9B63-B0F4C47CF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160"/>
            <a:ext cx="6895800" cy="5452200"/>
            <a:chOff x="2010960" y="245160"/>
            <a:chExt cx="689580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4080" y="954000"/>
              <a:ext cx="945720" cy="709560"/>
              <a:chOff x="3484080" y="954000"/>
              <a:chExt cx="94572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4080" y="954000"/>
                <a:ext cx="94572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3920" y="1265760"/>
                <a:ext cx="23004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160"/>
              <a:ext cx="6895800" cy="5452200"/>
              <a:chOff x="2010960" y="245160"/>
              <a:chExt cx="689580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160"/>
                <a:ext cx="6891120" cy="5452200"/>
                <a:chOff x="2010960" y="24516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09480" y="2234880"/>
                    <a:ext cx="712440" cy="50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160"/>
                  <a:ext cx="6891120" cy="5452200"/>
                  <a:chOff x="2010960" y="24516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1440" y="2322360"/>
                    <a:ext cx="2558880" cy="2742480"/>
                    <a:chOff x="5761440" y="2322360"/>
                    <a:chExt cx="2558880" cy="274248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3960" y="3020040"/>
                      <a:ext cx="21276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12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120"/>
                    <a:ext cx="3040560" cy="2529720"/>
                    <a:chOff x="5787720" y="2148120"/>
                    <a:chExt cx="3040560" cy="252972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480"/>
                      <a:ext cx="2236320" cy="426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2720" y="3721680"/>
                      <a:ext cx="1201320" cy="67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680"/>
                    <a:ext cx="3096360" cy="1991880"/>
                    <a:chOff x="5776200" y="2065680"/>
                    <a:chExt cx="3096360" cy="199188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440"/>
                      <a:ext cx="213984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880" y="3246120"/>
                      <a:ext cx="114876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12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0200" cy="2530080"/>
                    <a:chOff x="2085120" y="2366640"/>
                    <a:chExt cx="3040200" cy="253008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8560" y="2970000"/>
                      <a:ext cx="2236320" cy="428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8280" y="3940920"/>
                      <a:ext cx="1201320" cy="67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120" y="2283480"/>
                    <a:ext cx="3097080" cy="1992240"/>
                    <a:chOff x="2040120" y="2283480"/>
                    <a:chExt cx="3097080" cy="199224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0320" y="346392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8120"/>
                    <a:chOff x="2010960" y="2188440"/>
                    <a:chExt cx="3134160" cy="160812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4040" y="2990880"/>
                      <a:ext cx="1110600" cy="649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183"/>
                  <p:cNvGrpSpPr/>
                  <p:nvPr/>
                </p:nvGrpSpPr>
                <p:grpSpPr>
                  <a:xfrm>
                    <a:off x="2166840" y="2097720"/>
                    <a:ext cx="2940480" cy="1002600"/>
                    <a:chOff x="2166840" y="2097720"/>
                    <a:chExt cx="2940480" cy="100260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920" y="2223720"/>
                      <a:ext cx="1905120" cy="38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420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70720"/>
                      <a:ext cx="1730880" cy="26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1200" y="1522440"/>
                    <a:ext cx="2363400" cy="787320"/>
                    <a:chOff x="2761200" y="1522440"/>
                    <a:chExt cx="236340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560" y="1236600"/>
                    <a:ext cx="2324880" cy="1083960"/>
                    <a:chOff x="2887560" y="1236600"/>
                    <a:chExt cx="2324880" cy="108396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100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5080" y="1370520"/>
                      <a:ext cx="81684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1160" y="831240"/>
                    <a:ext cx="2170080" cy="1508040"/>
                    <a:chOff x="3161160" y="831240"/>
                    <a:chExt cx="217008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280"/>
                      <a:ext cx="1520280" cy="26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7320" y="335160"/>
                    <a:ext cx="1460520" cy="1886400"/>
                    <a:chOff x="4027320" y="335160"/>
                    <a:chExt cx="1460520" cy="188640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7640" y="1444320"/>
                      <a:ext cx="135576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720" y="545400"/>
                      <a:ext cx="72756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160"/>
                    <a:ext cx="1122120" cy="1946520"/>
                    <a:chOff x="4448160" y="245160"/>
                    <a:chExt cx="112212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6520" y="1402200"/>
                      <a:ext cx="1307160" cy="26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200" y="439920"/>
                      <a:ext cx="702360" cy="415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200"/>
                    <a:ext cx="2316960" cy="1112400"/>
                    <a:chOff x="5661720" y="952200"/>
                    <a:chExt cx="2316960" cy="111240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5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2880" y="1090440"/>
                      <a:ext cx="816840" cy="417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760"/>
                    <a:ext cx="2199600" cy="1450800"/>
                    <a:chOff x="5529600" y="626760"/>
                    <a:chExt cx="2199600" cy="145080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4240" y="1429920"/>
                      <a:ext cx="15192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4480" y="810720"/>
                      <a:ext cx="815760" cy="417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7480" y="1466640"/>
                    <a:ext cx="1265040" cy="177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360"/>
                    <a:ext cx="1196280" cy="1901160"/>
                    <a:chOff x="5355720" y="27036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7160" y="1418400"/>
                      <a:ext cx="1309680" cy="22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520" y="486000"/>
                      <a:ext cx="702360" cy="355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9160"/>
                    <a:ext cx="1892520" cy="1796400"/>
                    <a:chOff x="5347440" y="389160"/>
                    <a:chExt cx="1892520" cy="179640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3320" y="585000"/>
                      <a:ext cx="766080" cy="522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7320" cy="1795680"/>
                    <a:chOff x="5458320" y="292680"/>
                    <a:chExt cx="427320" cy="1795680"/>
                  </a:xfrm>
                </p:grpSpPr>
                <p:sp>
                  <p:nvSpPr>
                    <p:cNvPr id="258" name="Freeform 222"/>
                    <p:cNvSpPr/>
                    <p:nvPr/>
                  </p:nvSpPr>
                  <p:spPr>
                    <a:xfrm rot="16696200">
                      <a:off x="5007600" y="1445400"/>
                      <a:ext cx="1175760" cy="10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223"/>
                    <p:cNvSpPr/>
                    <p:nvPr/>
                  </p:nvSpPr>
                  <p:spPr>
                    <a:xfrm rot="16696200">
                      <a:off x="5442480" y="533520"/>
                      <a:ext cx="63108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520" y="2530800"/>
                    <a:ext cx="2196000" cy="3002400"/>
                    <a:chOff x="3062520" y="2530800"/>
                    <a:chExt cx="2196000" cy="300240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19640" y="3314880"/>
                      <a:ext cx="2126520" cy="38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1800"/>
                      <a:ext cx="1139040" cy="604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680"/>
                    <a:ext cx="1482120" cy="2999880"/>
                    <a:chOff x="3791520" y="2650680"/>
                    <a:chExt cx="1482120" cy="299988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520" y="3441240"/>
                      <a:ext cx="1967400" cy="38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600"/>
                    <a:ext cx="874080" cy="2926800"/>
                    <a:chOff x="4509000" y="2703600"/>
                    <a:chExt cx="874080" cy="292680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080" y="3489480"/>
                      <a:ext cx="1886760" cy="34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6800" y="4809600"/>
                      <a:ext cx="1012320" cy="54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7920" y="2483640"/>
                    <a:ext cx="2280600" cy="2952720"/>
                    <a:chOff x="5677920" y="2483640"/>
                    <a:chExt cx="2280600" cy="295272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120" y="3251160"/>
                      <a:ext cx="2126520" cy="38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7680" y="2593440"/>
                    <a:ext cx="1758600" cy="3032640"/>
                    <a:chOff x="5647680" y="2593440"/>
                    <a:chExt cx="1758600" cy="303264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000" y="3395880"/>
                      <a:ext cx="2034720" cy="369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20320"/>
                      <a:ext cx="1090800" cy="57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5080" cy="2986560"/>
                    <a:chOff x="5576400" y="2710800"/>
                    <a:chExt cx="1225080" cy="298656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6840" y="3543120"/>
                      <a:ext cx="1973520" cy="30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400"/>
                    <a:ext cx="696960" cy="2778120"/>
                    <a:chOff x="5521320" y="2840400"/>
                    <a:chExt cx="696960" cy="277812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720" y="3607200"/>
                      <a:ext cx="1812960" cy="303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2040" y="3665160"/>
                      <a:ext cx="1771920" cy="23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560" y="4932360"/>
                      <a:ext cx="950760" cy="362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280" cy="4521240"/>
                <a:chOff x="2175480" y="682560"/>
                <a:chExt cx="673128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280" cy="4521240"/>
                  <a:chOff x="2175480" y="682560"/>
                  <a:chExt cx="673128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0920" y="857880"/>
                    <a:ext cx="3165840" cy="252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599"/>
                        </a:cubicBezTo>
                        <a:cubicBezTo>
                          <a:pt x="10696" y="21599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652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-1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8680" y="1752840"/>
                    <a:ext cx="175788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7800"/>
                    <a:ext cx="3132720" cy="2934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-1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7120" y="682560"/>
                    <a:ext cx="228204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-1"/>
                        </a:cubicBezTo>
                        <a:cubicBezTo>
                          <a:pt x="23204" y="-1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800" y="1875960"/>
                    <a:ext cx="94068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-1"/>
                        </a:cubicBezTo>
                        <a:cubicBezTo>
                          <a:pt x="20409" y="-1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272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7200" y="2181240"/>
                  <a:ext cx="54612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3960" y="714240"/>
              <a:ext cx="6411960" cy="4708440"/>
              <a:chOff x="2343960" y="714240"/>
              <a:chExt cx="6411960" cy="470844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70840" y="323640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5440" y="2581200"/>
                <a:ext cx="2617200" cy="28414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6800" y="2123640"/>
                <a:ext cx="153432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-1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3600" y="1740240"/>
                <a:ext cx="2930760" cy="293400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-1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8640" y="215208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11760" y="2138400"/>
                <a:ext cx="123804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-1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5640" y="3548520"/>
                <a:ext cx="598320" cy="1824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6840" y="2948760"/>
                <a:ext cx="543600" cy="10339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8120" y="3385800"/>
                <a:ext cx="133848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8840" y="14000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3920" y="3109320"/>
                <a:ext cx="1242000" cy="19746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8800" y="2111400"/>
                <a:ext cx="187236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7920" y="714240"/>
                <a:ext cx="819000" cy="17686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3920" y="2155680"/>
                <a:ext cx="54396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F3285-0A76-468C-B34D-389B0CCC677C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676520" y="228240"/>
            <a:ext cx="586728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 Black"/>
              </a:rPr>
              <a:t>V</a:t>
            </a:r>
            <a:r>
              <a:rPr b="1" lang="en-US" sz="6600" spc="-1" strike="noStrike">
                <a:solidFill>
                  <a:srgbClr val="ff66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ffff00"/>
                </a:solidFill>
                <a:latin typeface="Arial Black"/>
              </a:rPr>
              <a:t>s</a:t>
            </a:r>
            <a:r>
              <a:rPr b="1" lang="en-US" sz="6600" spc="-1" strike="noStrike">
                <a:solidFill>
                  <a:srgbClr val="008000"/>
                </a:solidFill>
                <a:latin typeface="Arial Black"/>
              </a:rPr>
              <a:t>i</a:t>
            </a:r>
            <a:r>
              <a:rPr b="1" lang="en-US" sz="6600" spc="-1" strike="noStrike">
                <a:solidFill>
                  <a:srgbClr val="0000ff"/>
                </a:solidFill>
                <a:latin typeface="Arial Black"/>
              </a:rPr>
              <a:t>b</a:t>
            </a:r>
            <a:r>
              <a:rPr b="1" lang="en-US" sz="6600" spc="-1" strike="noStrike">
                <a:solidFill>
                  <a:srgbClr val="486bb2"/>
                </a:solidFill>
                <a:latin typeface="Arial Black"/>
              </a:rPr>
              <a:t>l</a:t>
            </a:r>
            <a:r>
              <a:rPr b="1" lang="en-US" sz="6600" spc="-1" strike="noStrike">
                <a:solidFill>
                  <a:srgbClr val="660066"/>
                </a:solidFill>
                <a:latin typeface="Arial Black"/>
              </a:rPr>
              <a:t>e</a:t>
            </a:r>
            <a:r>
              <a:rPr b="1" lang="en-US" sz="5400" spc="-1" strike="noStrike">
                <a:solidFill>
                  <a:srgbClr val="ffffff"/>
                </a:solidFill>
                <a:latin typeface="Arial Black"/>
              </a:rPr>
              <a:t> Light &amp; Color</a:t>
            </a:r>
            <a:endParaRPr b="0" lang="en-US" sz="5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14040" y="3048120"/>
            <a:ext cx="746748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OBJECTIVE: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adley Hand ITC TT-Bold"/>
              </a:rPr>
              <a:t>SWBAT identify the different colors of the visible light and compare each of its frequency and wavelength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white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2. Whit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447920" y="1600200"/>
            <a:ext cx="579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ALL</a:t>
            </a:r>
            <a:r>
              <a:rPr b="0" lang="en-US" sz="4700" spc="-1" strike="noStrike">
                <a:solidFill>
                  <a:srgbClr val="ffcc00"/>
                </a:solidFill>
                <a:latin typeface="Arial Black"/>
              </a:rPr>
              <a:t> the colors ROY G BIV being </a:t>
            </a:r>
            <a:r>
              <a:rPr b="0" lang="en-US" sz="4700" spc="-1" strike="noStrike" u="sng">
                <a:solidFill>
                  <a:srgbClr val="ffcc00"/>
                </a:solidFill>
                <a:uFillTx/>
                <a:latin typeface="Arial Black"/>
              </a:rPr>
              <a:t>REFLECTED</a:t>
            </a:r>
            <a:endParaRPr b="0" lang="en-US" sz="47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BLACK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ow do we get black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9144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ffcc00"/>
                </a:solidFill>
                <a:latin typeface="Arial Black"/>
              </a:rPr>
              <a:t>???</a:t>
            </a:r>
            <a:endParaRPr b="0" lang="en-US" sz="25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3. Black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LL colors  of rainbow being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 Black"/>
              </a:rPr>
              <a:t>ABSORBED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18288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xample: Fashion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52280" y="1980720"/>
            <a:ext cx="426744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all/Wint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Content Placeholder 2"/>
          <p:cNvSpPr/>
          <p:nvPr/>
        </p:nvSpPr>
        <p:spPr>
          <a:xfrm>
            <a:off x="3962520" y="5562720"/>
            <a:ext cx="5638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pring/Summer Color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5307120" y="2362320"/>
            <a:ext cx="3822480" cy="32763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04920" y="2666880"/>
            <a:ext cx="30574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4. How do we see color?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4. HOW DO WE SEE COLORS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First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light goes from the source (sun, lamp, etc.) to the object.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3" name="Rectangle 5"/>
          <p:cNvSpPr/>
          <p:nvPr/>
        </p:nvSpPr>
        <p:spPr>
          <a:xfrm>
            <a:off x="457200" y="3276720"/>
            <a:ext cx="838188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ff"/>
                </a:solidFill>
                <a:latin typeface="Textile"/>
              </a:rPr>
              <a:t>Second,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the color we see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reflect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and the rest is </a:t>
            </a:r>
            <a:r>
              <a:rPr b="1" lang="en-US" sz="3500" spc="-1" strike="noStrike" u="sng">
                <a:solidFill>
                  <a:srgbClr val="ffcc00"/>
                </a:solidFill>
                <a:uFillTx/>
                <a:latin typeface="Textile"/>
              </a:rPr>
              <a:t>absorbed</a:t>
            </a:r>
            <a:r>
              <a:rPr b="1" lang="en-US" sz="3500" spc="-1" strike="noStrike">
                <a:solidFill>
                  <a:srgbClr val="ffcc00"/>
                </a:solidFill>
                <a:latin typeface="Textile"/>
              </a:rPr>
              <a:t> by the object. </a:t>
            </a:r>
            <a:endParaRPr b="0" lang="en-US" sz="35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REFLECT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WHITE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240" y="228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7" name="TextBox 2"/>
          <p:cNvSpPr/>
          <p:nvPr/>
        </p:nvSpPr>
        <p:spPr>
          <a:xfrm>
            <a:off x="380880" y="1981080"/>
            <a:ext cx="35053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hen all colors are </a:t>
            </a: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 Black"/>
              </a:rPr>
              <a:t>ABSORBED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 Black"/>
              </a:rPr>
              <a:t>We see BLACK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Essential Question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46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nswer the essential question: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How do we perceive color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from sun reflects off object and we see the color that is reflected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 Black"/>
              </a:rPr>
              <a:t>Quick Review Point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274320" indent="-27432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s the smallest band of the Electromagnetic spectrum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HW: How We See Ligh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1. House Plan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(s) go i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color (s) go out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 Balloon Tos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ight &amp; Color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Review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When white light hits an object, all the colors are absorbed except for the 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color of that object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Example: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bsorbed except </a:t>
            </a:r>
            <a:r>
              <a:rPr b="0" lang="en-US" sz="2400" spc="-1" strike="noStrike">
                <a:solidFill>
                  <a:srgbClr val="0000cc"/>
                </a:solidFill>
                <a:latin typeface="Arial Black"/>
              </a:rPr>
              <a:t>blu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, which is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No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All colors are reflected to eye. (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white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light)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5f5f5f"/>
                </a:solidFill>
                <a:latin typeface="Arial Black"/>
              </a:rPr>
              <a:t>Black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– All colors are absorbed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No colors are reflected to eye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ctivity Instruction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For this activity, you will be given a colored balloon.  You will see objects of various colors on the screen. 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absorb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cover the balloon with your body. 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DON</a:t>
            </a:r>
            <a:r>
              <a:rPr b="0" lang="ja-JP" sz="2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T POP IT!!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	</a:t>
            </a:r>
            <a:r>
              <a:rPr b="0" i="1" lang="en-US" sz="2400" spc="-1" strike="noStrike" u="sng">
                <a:solidFill>
                  <a:srgbClr val="ffcc00"/>
                </a:solidFill>
                <a:uFillTx/>
                <a:latin typeface="Arial Black"/>
              </a:rPr>
              <a:t>If the color you have is </a:t>
            </a:r>
            <a:r>
              <a:rPr b="0" i="1" lang="en-US" sz="2400" spc="-1" strike="noStrike" u="sng">
                <a:solidFill>
                  <a:srgbClr val="fe1f08"/>
                </a:solidFill>
                <a:uFillTx/>
                <a:latin typeface="Arial Black"/>
              </a:rPr>
              <a:t>reflected</a:t>
            </a:r>
            <a:r>
              <a:rPr b="0" lang="en-US" sz="2400" spc="-1" strike="noStrike">
                <a:solidFill>
                  <a:srgbClr val="ffcc00"/>
                </a:solidFill>
                <a:latin typeface="Arial Black"/>
              </a:rPr>
              <a:t> by the object, you need to reflect the balloon into the air above you.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fused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I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okay…let</a:t>
            </a:r>
            <a:r>
              <a:rPr b="0" lang="ja-JP" sz="2800" spc="-1" strike="noStrike">
                <a:solidFill>
                  <a:srgbClr val="ffcc00"/>
                </a:solidFill>
                <a:latin typeface="Arial Black"/>
              </a:rPr>
              <a:t>’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s give it a shot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All colors are absorbed except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412" name="Picture 4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32004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-3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Let</a:t>
            </a:r>
            <a:r>
              <a:rPr b="0" i="1" lang="ja-JP" sz="4400" spc="-1" strike="noStrike">
                <a:solidFill>
                  <a:srgbClr val="ffffff"/>
                </a:solidFill>
                <a:latin typeface="Arial Black"/>
              </a:rPr>
              <a:t>’</a:t>
            </a:r>
            <a:r>
              <a:rPr b="0" i="1" lang="en-US" sz="4400" spc="-1" strike="noStrike">
                <a:solidFill>
                  <a:srgbClr val="ffffff"/>
                </a:solidFill>
                <a:latin typeface="Arial Black"/>
              </a:rPr>
              <a:t>s get started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Pay close attention 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00"/>
                </a:solidFill>
                <a:latin typeface="Arial Black"/>
              </a:rPr>
              <a:t>to the MAIN color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LAST ONE…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et Ready!!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ADD MORE Slides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1. What is visible light? 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200" y="1905120"/>
            <a:ext cx="8762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extile"/>
              </a:rPr>
              <a:t>-smallest part of the EM spectrum that the human eyes can se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685800" y="3124080"/>
            <a:ext cx="80773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extile"/>
              </a:rPr>
              <a:t>Red to Violet (ROYGBIV)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Chalkboard Bold"/>
              </a:rPr>
              <a:t>What are the different colors of visible light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366480" y="1828800"/>
            <a:ext cx="8762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ed – lowest energy, long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Orange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Yellow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Gree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lu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Indig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29040" indent="-32904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Violet – highest energy, shortest wavelength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3276720" y="3276720"/>
            <a:ext cx="586728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R</a:t>
            </a:r>
            <a:r>
              <a:rPr b="0" lang="en-US" sz="7000" spc="-1" strike="noStrike">
                <a:solidFill>
                  <a:srgbClr val="ff6600"/>
                </a:solidFill>
                <a:latin typeface="Arial Black"/>
              </a:rPr>
              <a:t>O</a:t>
            </a:r>
            <a:r>
              <a:rPr b="0" lang="en-US" sz="7000" spc="-1" strike="noStrike">
                <a:solidFill>
                  <a:srgbClr val="ffff00"/>
                </a:solidFill>
                <a:latin typeface="Arial Black"/>
              </a:rPr>
              <a:t>Y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8000"/>
                </a:solidFill>
                <a:latin typeface="Arial Black"/>
              </a:rPr>
              <a:t>G</a:t>
            </a:r>
            <a:r>
              <a:rPr b="0" lang="en-US" sz="7000" spc="-1" strike="noStrike">
                <a:solidFill>
                  <a:srgbClr val="ff0000"/>
                </a:solidFill>
                <a:latin typeface="Arial Black"/>
              </a:rPr>
              <a:t> </a:t>
            </a:r>
            <a:r>
              <a:rPr b="0" lang="en-US" sz="7000" spc="-1" strike="noStrike">
                <a:solidFill>
                  <a:srgbClr val="000090"/>
                </a:solidFill>
                <a:latin typeface="Arial Black"/>
              </a:rPr>
              <a:t>B</a:t>
            </a:r>
            <a:r>
              <a:rPr b="0" lang="en-US" sz="7000" spc="-1" strike="noStrike">
                <a:solidFill>
                  <a:srgbClr val="660066"/>
                </a:solidFill>
                <a:latin typeface="Arial Black"/>
              </a:rPr>
              <a:t>I</a:t>
            </a:r>
            <a:r>
              <a:rPr b="0" lang="en-US" sz="7000" spc="-1" strike="noStrike">
                <a:solidFill>
                  <a:srgbClr val="ff3fdc"/>
                </a:solidFill>
                <a:latin typeface="Arial Black"/>
              </a:rPr>
              <a:t>V</a:t>
            </a: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most energy and short/small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TextBox 11"/>
          <p:cNvSpPr/>
          <p:nvPr/>
        </p:nvSpPr>
        <p:spPr>
          <a:xfrm>
            <a:off x="609480" y="1828800"/>
            <a:ext cx="75438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fdc"/>
                </a:solidFill>
                <a:latin typeface="Arial Black"/>
              </a:rPr>
              <a:t>Violet      the HIGHEST energy… and SHORT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Right Arrow 3"/>
          <p:cNvSpPr/>
          <p:nvPr/>
        </p:nvSpPr>
        <p:spPr>
          <a:xfrm>
            <a:off x="2971800" y="2133720"/>
            <a:ext cx="914400" cy="30456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7772400" cy="19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ich color has the lowest energy and long/big wavelength??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lor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66680" y="2361960"/>
            <a:ext cx="73152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0000"/>
                </a:solidFill>
                <a:latin typeface="Arial Black"/>
              </a:rPr>
              <a:t>Red      the LOWEST energy… and LONG wavelength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Right Arrow 1"/>
          <p:cNvSpPr/>
          <p:nvPr/>
        </p:nvSpPr>
        <p:spPr>
          <a:xfrm>
            <a:off x="3048120" y="2666880"/>
            <a:ext cx="914400" cy="304920"/>
          </a:xfrm>
          <a:prstGeom prst="rightArrow">
            <a:avLst>
              <a:gd name="adj1" fmla="val 50000"/>
              <a:gd name="adj2" fmla="val 49980"/>
            </a:avLst>
          </a:prstGeom>
          <a:solidFill>
            <a:srgbClr val="ff8b17"/>
          </a:solidFill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3520" y="25142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What happens when you wear WHITE on a hot day?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1T20:11:57Z</dcterms:created>
  <dc:creator>Charles</dc:creator>
  <dc:description/>
  <dc:language>en-US</dc:language>
  <cp:lastModifiedBy>RomaK</cp:lastModifiedBy>
  <cp:lastPrinted>2010-09-22T18:15:49Z</cp:lastPrinted>
  <dcterms:modified xsi:type="dcterms:W3CDTF">2015-09-03T12:39:03Z</dcterms:modified>
  <cp:revision>38</cp:revision>
  <dc:subject/>
  <dc:title>Color Balloon Toss</dc:title>
</cp:coreProperties>
</file>